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1924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07560" y="739440"/>
            <a:ext cx="492444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136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19240" y="9361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EFC5D-8D26-499D-B526-BAE32A41B25D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E2FED-139D-435E-AE9D-751C64412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8CC9A-5E3B-4263-96B4-ECED77BBE6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E8F72-2618-41AB-B9F6-98609428C9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1767C-7562-431C-B057-6C858385A8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90F7E-CDFE-4688-84DC-91CCF7A72D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70678-3508-44F1-8D0B-4080F6235E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87FED-95BC-4128-ABCB-2F71A062D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70754-42C7-43B7-AA63-91DF26F464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85680" y="749160"/>
            <a:ext cx="477072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09FFA-AA06-48F6-B584-9784C06FF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332BF-DA0B-4193-ADAC-0BE31D80C9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B1F59-5E13-47EE-9BBD-EC40A4247D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3554F-22A3-4A28-9939-A942520610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1960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6FAB9-7370-40B7-896E-FC16768F87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1960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79F10-882F-4AC3-9C62-89D2E11E3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22E86-619C-417A-8466-A3F37376A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1960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2BD32-AB57-41A6-B887-8CB4C5418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1960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2CBD9-80E6-4B8B-A233-DE5F51B6B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AF97B-9466-4382-A5B7-D68BA1B1A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1960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770D5-8658-44AA-8FEA-CC90A4E0AE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1960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2AEE2-93D9-459D-832C-A0F889D87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7FA0E-7BB6-4F1C-9FE0-5CBED7B555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6BF4F-87F0-44C8-9BE9-8B5512C4FB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88C90-1334-47A3-B3DF-40DE8E32D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E7DE7-64C4-4B90-9C8D-6D302ABF87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7920" y="739800"/>
            <a:ext cx="49294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4DBE6-9C3B-4925-97EB-5C0547D6E1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CD48C-C8C8-4550-A487-F20C72D55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23920" y="739800"/>
            <a:ext cx="44974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1E34A-F6C4-4477-9979-EEEA4C8F6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2E659-AB9F-4792-9758-3F5D3BA349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23920" y="739800"/>
            <a:ext cx="44974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66533-C3C8-4EFC-9C8C-DA11EC96DD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D258F-6176-4872-B231-3F07AE9C1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85680" y="749160"/>
            <a:ext cx="477072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712D8-F1D2-48A2-8A78-0C3865D81B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16407-AA9F-40F7-8A08-9C21811342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85680" y="749160"/>
            <a:ext cx="477072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2C009-C721-4B7C-BD11-AB8A8671E8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5DFB7-3D38-4D60-9F79-2C925BDF47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2BFB8-C755-4787-8A6A-062153B0C5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71585-D19E-4644-87AC-739A8C9C11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9480C-1E39-44E1-B6E8-8E57C17802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F7E69-A8A5-4C12-A7FC-31456EE5D8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69A-AD6E-4100-8E64-E15DE4F5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26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26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FA6-95E2-4081-9925-A9690D5F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DB5-DE24-441E-B015-A32AC5C8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14264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14264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84768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384768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158-5F25-4CC8-9957-67E44FBA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26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26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26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D48-DC90-4490-AFCC-DD4A55F6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26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26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26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14264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14264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384768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384768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26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145-57CB-4B68-AB99-68C5A62D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728-2DDB-4931-A87D-ADE0FD6C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B2B-9E7F-445B-937F-B4A81800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FCC-14F9-41E8-8659-C90C3989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1DF-19C0-41F0-9C1A-0D45B82E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1DB-16D7-45A4-9D18-EA7FF8B9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26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3B6-B23A-4D3C-A677-2F45DD95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226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527520"/>
            <a:ext cx="113976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527520"/>
            <a:ext cx="456876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880"/>
            <a:ext cx="911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DE603FAB-204C-4099-BC19-5C2CE2240513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769160" cy="19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3600" cy="1722240"/>
            <a:chOff x="228600" y="5000760"/>
            <a:chExt cx="8913600" cy="17222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5480" y="5051160"/>
              <a:ext cx="5256720" cy="16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160" cy="172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Board Meeting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anuary 30, 2008 @ Utrecht, The Netherland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A2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co Col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SA2 Achie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nected at 100 Mbps; test pe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ports good spending profile (financial data submission pe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0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M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run 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 spending (will claim 19.5 k€ out of 25 k€ EC gr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nected at 10 G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 spending profile (will claim 5 k€ out of 30 k€ EC gr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2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anghai connected and tests performed. But involved in space mis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rumqi will connect in 2009, but maybe out of EXPReS time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current plans to connect Mijun and Kumming (now at 34 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9B1-CF68-4689-875F-23AD03E79D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SA2 Achie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national connection difficult. Tests pe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00 Mbps operation may need extra EXPReS money (but matching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4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nected at 1 Gbps; soon at 10 G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quipment charged to JRA1, not SA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ll be able to claim full EC gr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5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VI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nection through Stockholm being te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spending profile; may benefit of extra EC sup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uld demonstrate astronomical operation within EXPReS time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3A1-7971-4D86-97A7-04C89D4C2C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inancial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191280" cy="506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569-083B-42F8-AC8D-24AF0F10BE8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bout low 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197000"/>
            <a:ext cx="767412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2 EC money covers only a fraction of total cost (1: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if matching is “required”, EC may pay up to 100% of eligible costs in SAs. Hard 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to be approved by the local au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are of depreci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VAT is e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(rent of services) funding limited to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artners may not spend their allocated EC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RAO, INAF, NCU, OSO, TI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752-D1A8-4AF2-8E1F-57CA12A33A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SA2 forecast wish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792504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 of production network to 1 Gbps (tests don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felsberg will join the producti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bes (CNIG-IGN) will connect @ 1 Gbps in Ma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AC will demonstrate astronomica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cina will change to shorter (48 km) dark fiber – with new equipment will allow up to 10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: MRO/OSO – JBO at 10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: NAIC – TIGO – JIVE at 500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rumqi will connect in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 PARTNERS are to send copies of their C-forms, J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d audit certificates to the EXPReS Project Manager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5000"/>
              </a:lnSpc>
              <a:buNone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729-0235-471A-8FFD-7BF35802A2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46160"/>
            <a:ext cx="823428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inancial forecas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3800" cy="39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723-A512-4D69-87E5-996F6C708AD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46160"/>
            <a:ext cx="823428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Possible extension of EXPReS?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79250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will benefit?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) Those institutions who pay r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NIG-IG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t Ye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A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international conn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PI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) Other telescopes which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y jo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V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AF Sard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rum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 long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xtra (rental) cost to the pro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 months = 65 k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2 months = 130 k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+ costs of connecting Sardinia &amp; Urumq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602-E024-408D-9F63-9BE14B2D89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341360"/>
            <a:ext cx="788328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Bitstream Vera Sans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or deliverables are being pursued and ach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Bitstream Vera Sans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st partners have lower costs, as exp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Bitstream Vera Sans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tal SA2 cost lowered from 7.8 M€ to 4.6 M€ (+Sardinia/Urumqi). EC contribution is 0.82 M€ (0.72 M€ spending “secured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Bitstream Vera Sans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location of EC grant from low spending partners (HRAO, INAF?, NCU, OSO) to other (MPIfR, VIRAC?, CNIG-IGN, CSIRO, TIGO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Bitstream Vera Sans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ARNET &amp; SurfNet may justify larger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Bitstream Vera Sans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ful to extend SA2 (1 year?) to justify larger spending and allow connection of new telescopes (Sardinia, Urumqi, VIR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E5C-585A-4D83-B3BB-4401F128649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36320"/>
            <a:ext cx="8234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- Looking Dow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627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5791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Paul Boven and Google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D8B-42D7-425A-98DB-B63D7F9597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A2- Network Provision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 partner institutions, operating 21 radiotele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ion of work and funding at participant n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 partial funding (8.75:1 in proposal) acts as a great catalyst of work and national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pack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1: Feasibility study of last-mile connection of telescopes to JIVE via GÉ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2: Provision of the infrastructure and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3: Connectivity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7000"/>
              </a:lnSpc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95C-2CE0-4248-B283-497A6AFB8E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A2- Network Provision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496360" cy="50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+3 telescopes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utine (“production”) operations at 512 Mbps @ 6 tele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-constant costs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y participants are able to obtain better deals for cheaper/fre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ables are achieved but spending is 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dget =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7.8 M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820 k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be financed by 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R1 = 2 M€ spent (127 k€ claimed to 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R2* = expect around 2,2 M€ (373 k€ will be claimed to 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R3* = expected 347 k€ (248 k€ will be clai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TAL expense* =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.6 M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to be claimed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750 k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Not including AARNET/Surf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7000"/>
              </a:lnSpc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185-F5D1-46BF-A272-3D295EC14C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ite Connectivity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75280" cy="493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F9F-8979-4CD8-B0F9-92542DEC1DA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nnectivity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473440" cy="53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C94-E2D1-48C8-8763-DDED0D8C05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liverabl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569080" cy="40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F40-2ACF-4862-8499-4EA98532FA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SA2 Achie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utine operations achieved up to 512 M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Gbps achieved with 5 stations in January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JIVE/Surf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 x 1 Gbps lines available (+ 1 x 5 Gbps). JIVE cost declared by Surf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AARNET/CS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SIRO telescopes connected at 1 Gbps, and tests perfor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SRT connected at 1 Gbps. No costs declared to EXP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NIG-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st-mile connection expected in May 2008. Low spending till 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021-F528-4265-9EA5-2EA075CBCC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SA2 Achie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HR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cal 1 Gbps link in place. International connection diffic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spending till now (10 k€ EC gr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dicina connected; pending new fiber ro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rdinia expects to connect in 2009, in time for EXP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 spending (expected total 81 k€ - EC may finance up to 110 k€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7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MPI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ffelsberg connected, and first tests performed successfu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y good spending profile – provided declaration of MPG cos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M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nected at 10 G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 cost but good spending pro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742-16F9-4E43-AD1D-CA92F1C7E1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8-01-30T10:09:20Z</dcterms:modified>
  <cp:revision>20</cp:revision>
  <dc:subject/>
  <dc:title>Slide 1</dc:title>
</cp:coreProperties>
</file>